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29DB-B4AD-434D-8800-CF7AE67C3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45F6-CB20-4B35-ABFE-887AF64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5A32-C6F7-402A-8ED5-BA7BD2D8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8FBE-516C-4293-954F-0742879A1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5739-9D6B-4D37-9B58-6C9CE385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B15D-EDE2-4B63-99CA-C73612C7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2222-1C4D-4E4A-BE3A-39F292E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1563-D404-409D-BE0F-F4A94D49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210A-49E9-4117-BD49-DF903324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DADF-E51D-47FC-9664-57C4673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E0A9-4D5B-4E3A-BBCB-B3399CF5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0359-B3E2-43B1-850D-4222CBB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EE29-F4AB-4D50-A12D-10EEFEEB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crio.org/USGCRP/LaJolla/cover.html" TargetMode="External"/><Relationship Id="rId2" Type="http://schemas.openxmlformats.org/officeDocument/2006/relationships/hyperlink" Target="http://www.gcrio.org/USGCRP/LaJolla/cov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p.edu/catalog/11820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New Ye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538020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was a goo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behind the Federation has been reaffirm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ing cyberinfrastructure(s) look like the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ntities have jo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ederal agencies support the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 has changed for th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 is smaller and more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poised to adopt a new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SIP Federation officers (will) have been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ed support for Earth science by the incoming US Administration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, after reviewing USGCRP, NRC recommended: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esponsibility for product generation, publication, and user services should be held by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deration of partners,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ich w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utilize an open management approach in which key decisions are made wi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munity leadershi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ncourage innovation and creativity throug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de participation of the scientific, public, and private sectors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 Review of the U.S. Global Change Research Program and NASA’s Mission to Planet Earth/Earth Observing Sy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ational Academy Press, 1995, 96 pp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crio.org/USGCRP/LaJolla/cov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Particip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rom 27 to 110 (and 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 (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Science Mission Dir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cience and Applied Scienc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amental improvements are needed in existing observation and information systems because they only loosely connect three key elements: (1) the 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duce information; (2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es, forecasts, and mode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vide timely and coherent syntheses of otherwise disparate information; and (3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proces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use those analyses and forecasts to produce actions with direct societal benefit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wth:  NRC Decadal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617220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Council.  2007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th Science and Applications from Space:  National Imperatives for the Next Decade and Bey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Washington.  437 p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p.edu/catalog/11820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urrounding climate change have been re-emphas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changes and likely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 of anticipated conseq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ose consequences that cannot be immediately mi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ire improved linkages between knowledge and action as described by the N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tion is healt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 the Federation continues 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on that created the Federation was ahead of it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s are to continue to evolve and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do to better serve our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– and cannot – provide to our partners as we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est to configure ourselves to deliver on that 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1:29:00Z</dcterms:created>
  <dc:creator>The Office for Arid Lands Studies</dc:creator>
  <dc:description/>
  <dc:language>en-US</dc:language>
  <cp:lastModifiedBy> </cp:lastModifiedBy>
  <dcterms:modified xsi:type="dcterms:W3CDTF">2009-01-06T12:27:20Z</dcterms:modified>
  <cp:revision>24</cp:revision>
  <dc:subject/>
  <dc:title>Diffusion of innovation</dc:title>
</cp:coreProperties>
</file>